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72463"/>
        <c:axId val="11476760"/>
      </c:barChart>
      <c:catAx>
        <c:axId val="68072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76760"/>
        <c:crosses val="autoZero"/>
        <c:auto val="1"/>
        <c:lblAlgn val="ctr"/>
        <c:lblOffset val="100"/>
        <c:noMultiLvlLbl val="0"/>
      </c:catAx>
      <c:valAx>
        <c:axId val="11476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72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CC0-C775-4D31-9322-54B01661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25A-2088-4C06-AF84-62674803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DAC-278F-4703-B083-037C92EB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74F-0AF7-4996-AFAE-3732C2B9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CAE-AEB4-456F-812C-4BDB2AEF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B1D-034B-47EA-8140-BA2742C2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79F-64F4-4572-B9E8-5265CBDD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98D-A9B1-49E2-925C-2A3B773D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CEA-37E9-4868-81F2-48E35CB1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A25-B85E-463B-8E1A-CAF86737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9EB-E5C4-4283-A2B6-CCACACE1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0D4-68EB-4E6E-85EA-1E9A3472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01D1F-8DE5-4F24-A939-283A2F2243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