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02374"/>
        <c:axId val="2021284"/>
      </c:barChart>
      <c:catAx>
        <c:axId val="26402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1284"/>
        <c:crosses val="autoZero"/>
        <c:auto val="1"/>
        <c:lblAlgn val="ctr"/>
        <c:lblOffset val="100"/>
        <c:noMultiLvlLbl val="0"/>
      </c:catAx>
      <c:valAx>
        <c:axId val="2021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02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40D-A079-4EBE-8826-2734F935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6F8-B1B9-44FB-A6F6-F42BC032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5AE-D60C-4439-BBF8-161B4BCA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3BB-F6D5-4889-8554-D6AE5017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4A4-B2C8-471A-B7B2-800891F0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300-897D-4BDF-94C6-B106FD9D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441-6001-40CA-9995-E519E7BA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A10-A335-408D-B3BC-471A44AF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131-610B-411F-BD4E-8D3B1985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154-F316-4CAE-9184-99AB92B9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824-CA4D-4FB9-8657-8780C297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C07-61AF-430E-A9EA-F44942A5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FAA72-6DFE-4892-90FF-7155DCE4B7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