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6760"/>
        <c:axId val="83594772"/>
      </c:barChart>
      <c:catAx>
        <c:axId val="89796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94772"/>
        <c:crosses val="autoZero"/>
        <c:auto val="1"/>
        <c:lblAlgn val="ctr"/>
        <c:lblOffset val="100"/>
        <c:noMultiLvlLbl val="0"/>
      </c:catAx>
      <c:valAx>
        <c:axId val="83594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6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AFE-6CF4-4BAD-B0C9-AE28013E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F91-631C-4929-B27B-40E9B94E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C3C-1A48-4B92-AD9A-972B2AAC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25B-5F04-42F6-B52A-DCDE98BC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D28-8E31-4FB6-AEC3-F613A7E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C30-6988-4485-8CCA-756521C6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600-48D5-455F-9195-BD69AE9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8F7-A87D-4F4E-BA07-DA742EC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AB6-46BA-43C9-BE68-7A70CB19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E80-1EF8-48D5-AA0E-5C772EE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466-26F4-47B7-B2BB-FB6D6C0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E1A-66EF-455D-A890-B7264A9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37F51-F598-4552-9189-9D1B4272E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