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17302"/>
        <c:axId val="71659791"/>
      </c:barChart>
      <c:catAx>
        <c:axId val="50117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59791"/>
        <c:crosses val="autoZero"/>
        <c:auto val="1"/>
        <c:lblAlgn val="ctr"/>
        <c:lblOffset val="100"/>
        <c:noMultiLvlLbl val="0"/>
      </c:catAx>
      <c:valAx>
        <c:axId val="71659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17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784-F930-4EB0-85E9-DCCE9E5E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518-1C31-438D-9AAF-3405EE02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5E0-5D7E-483F-98A7-E4D54839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3E9-AA21-4B21-A5BF-989364AF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419-5552-4F7A-A281-E7BF4D87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49D-9A67-4E90-8764-3DFEAE18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E9F-1048-46CC-934C-36C7E1D8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E73-0091-4AB0-863F-5B01D320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73A-F879-43B6-9D92-AFAA1FEE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A32-BD9D-46CA-8018-F0F53734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D63-2817-46E1-9A38-4531F991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3CB-D13C-4757-BA81-EF548E26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8D95A-0819-45A8-BE0E-74640C707C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