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37086"/>
        <c:axId val="16416324"/>
      </c:barChart>
      <c:catAx>
        <c:axId val="72437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6324"/>
        <c:crosses val="autoZero"/>
        <c:auto val="1"/>
        <c:lblAlgn val="ctr"/>
        <c:lblOffset val="100"/>
        <c:noMultiLvlLbl val="0"/>
      </c:catAx>
      <c:valAx>
        <c:axId val="16416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37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709-8147-4649-BDD9-5A71AF2B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3AA-074A-496E-8FBE-533B0406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44E-5DD3-4882-BE53-42A0B394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59B-5DE4-4266-9919-BE3FAC80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37F-FF7F-4B51-8513-2258153E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E0E-9D1B-4D7F-803D-C29ECD11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C59-DB8A-49F9-9486-D09C6E74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915-0913-4435-9C61-ACC8A85E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E14-5756-43D8-82F5-B74D52CD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015-D0F2-435E-BA4E-9C537820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8AE-C7AB-45AA-A19D-E9F49264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A54-CB16-448C-B91D-04B1E123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E5902-E806-4E45-8415-7D404B2316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