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424185"/>
        <c:axId val="75201289"/>
      </c:barChart>
      <c:catAx>
        <c:axId val="114241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201289"/>
        <c:crosses val="autoZero"/>
        <c:auto val="1"/>
        <c:lblAlgn val="ctr"/>
        <c:lblOffset val="100"/>
        <c:noMultiLvlLbl val="0"/>
      </c:catAx>
      <c:valAx>
        <c:axId val="752012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4241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8E6F-02B1-4AA9-9075-C4FCC03C7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3D35-6212-42B0-9C9A-F7660012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B4D7-6D67-4032-8998-995E77D95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53C3-FF06-4BF5-A64A-E30132FC4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F1EE-8FF8-41AC-B5C5-86EA9D22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1F82-3035-4A28-A5FF-7BCA704A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96A9-5E15-41D8-A9C3-5384C78C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DE1B-C00D-44E6-9A23-03D9FA12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B7AF-7ECB-4938-B7D3-04EEBB09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0CE0-9E9B-41FC-A7D7-59C6550D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D9D8-2669-428A-954F-C718137B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9320-A25C-4D4A-B140-D05696A2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C76A8E-7716-4C8D-A378-A6CF8D5819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