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8785"/>
        <c:axId val="91238303"/>
      </c:barChart>
      <c:catAx>
        <c:axId val="69918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8303"/>
        <c:crosses val="autoZero"/>
        <c:auto val="1"/>
        <c:lblAlgn val="ctr"/>
        <c:lblOffset val="100"/>
        <c:noMultiLvlLbl val="0"/>
      </c:catAx>
      <c:valAx>
        <c:axId val="91238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8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0B9-FB40-424F-9338-5E334AE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A56-6254-4E8E-920A-9155D220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565-9F1F-4794-8836-D53C1DDF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5D2-964D-42C4-9448-1C6A74A6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6F3-5B12-4853-82C0-4F41250F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BCA-AD38-4472-936B-7B0F5DD8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148-7450-49D6-B468-04EDD4CA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D30-9FB7-4416-9FD2-3B1251A5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B96-3147-42C3-81B3-A0AB26EC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A1B-C584-4A4F-9F6B-B9DC21B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3ECD-D985-462A-A8CE-BB51FD4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02D-A340-4305-8F75-39C42B5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C364-9E57-42CA-9664-849E253985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