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71658"/>
        <c:axId val="95611513"/>
      </c:barChart>
      <c:catAx>
        <c:axId val="58271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11513"/>
        <c:crosses val="autoZero"/>
        <c:auto val="1"/>
        <c:lblAlgn val="ctr"/>
        <c:lblOffset val="100"/>
        <c:noMultiLvlLbl val="0"/>
      </c:catAx>
      <c:valAx>
        <c:axId val="95611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71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2BC-3002-40FF-8593-8E51CC1A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3B0-0583-4B4B-BD91-4746D6A5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566-0197-4029-8A52-DDCE14EE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076-65DC-451A-B3CA-9DF11761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C2B-E709-4EF1-AE06-F68B3EE1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39D-8B31-4C06-BA74-AD774D70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C19-CF4B-46E8-9F43-2C22E248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6A8-2027-4324-AB95-ED08090E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D88-4D7A-4CA9-95D0-B4E3361A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BFA-A5DB-485F-BBCC-63A0B69A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F48-4AC3-4D8C-9963-8BA8D162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D19-8819-4790-B224-2788047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C0A35-B9A1-45D2-B2A2-A76C5AD5BA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