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33165"/>
        <c:axId val="24678231"/>
      </c:barChart>
      <c:catAx>
        <c:axId val="63933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78231"/>
        <c:crosses val="autoZero"/>
        <c:auto val="1"/>
        <c:lblAlgn val="ctr"/>
        <c:lblOffset val="100"/>
        <c:noMultiLvlLbl val="0"/>
      </c:catAx>
      <c:valAx>
        <c:axId val="24678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3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36C-6E2D-431D-BC83-F4A8FBA1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950-64C5-49E1-AB8D-F964EDB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D28-6DCC-40AE-B236-958B388B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FD5-D7D2-457B-B576-6F4F9A11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329-02D4-4A9F-945D-2093895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107-B4E2-41D8-996A-1FCBCFB5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45D-DA74-4EC5-855D-4A1B233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B37-F09A-4FB7-805F-CFD94AC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45B-82D3-4B8B-8BD9-399DB199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D85-0ED3-4B4E-82C4-63DDC53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217-A904-46DA-BD4F-611227AC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824-B20C-42E9-B803-BEC4F3A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3AF00-4424-49A6-A009-2518B5735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