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06010"/>
        <c:axId val="29034339"/>
      </c:barChart>
      <c:catAx>
        <c:axId val="34806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34339"/>
        <c:crosses val="autoZero"/>
        <c:auto val="1"/>
        <c:lblAlgn val="ctr"/>
        <c:lblOffset val="100"/>
        <c:noMultiLvlLbl val="0"/>
      </c:catAx>
      <c:valAx>
        <c:axId val="29034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06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9A7-1D8D-4ED0-A263-1B37AAC1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D2E-342C-4C43-85CE-43705B96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B1B-C06B-4BB1-9569-3A418371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67C-98F9-481B-98F2-D5D71D65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6DF-7909-49CA-9CDB-6E3E3CB3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B18-1493-46D6-BB50-8ABB3FE6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6DF-9676-4DC0-9E1D-9FEE49EC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624-E8A1-4811-81C9-16F59B7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135-8D7D-4222-949F-275C859A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3BF-43CC-420E-BD70-F26FA99F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E7C-168A-45FB-9D92-42D3F041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A84-C396-40F7-AA24-CC6E01E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83B20-1F0B-484C-824C-8D3A3E5E27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