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1542"/>
        <c:axId val="61333779"/>
      </c:barChart>
      <c:catAx>
        <c:axId val="6271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33779"/>
        <c:crosses val="autoZero"/>
        <c:auto val="1"/>
        <c:lblAlgn val="ctr"/>
        <c:lblOffset val="100"/>
        <c:noMultiLvlLbl val="0"/>
      </c:catAx>
      <c:valAx>
        <c:axId val="61333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757-E403-4DF3-B3F7-3D873E83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94E-119E-4CC8-BD07-4429CBF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DB2-6FEE-4C3E-A356-C10DF3A8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8AE-63F4-49E5-AB0B-041989E7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8E9-AFC6-4894-AD37-0BAC4BA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429-9411-40C9-A588-34660C9E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FF0-46ED-4A4D-85BE-FAF2D323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D8D-EC54-4F4A-8107-FABD306D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5F0-ED08-4925-A5E2-8C0C1FB5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B9B-4400-45EB-AF25-C16A5C45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5E4-3BAE-489D-AE65-F9F51A9B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5C4-EA55-4B07-8927-BF88C9F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C82A-3CA2-484E-A929-F283258D2D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