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50229"/>
        <c:axId val="7351495"/>
      </c:barChart>
      <c:catAx>
        <c:axId val="69250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495"/>
        <c:crosses val="autoZero"/>
        <c:auto val="1"/>
        <c:lblAlgn val="ctr"/>
        <c:lblOffset val="100"/>
        <c:noMultiLvlLbl val="0"/>
      </c:catAx>
      <c:valAx>
        <c:axId val="735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50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293-F353-4D01-979A-C8363909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00E-EB28-4DA9-B527-22CAAAD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014-AAC2-47BF-9815-3E60160B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BA8-09F6-4E06-A989-037FEEAF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89B-DCD9-4F64-812A-BA99A384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21C-8331-4A13-B0F6-BC9680C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257-142E-4741-8B8D-668CC95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3F0-60BD-4F0E-A881-EA4EAF5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725-4B98-41DD-98A8-2869A718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7D4-8166-46A2-8DA7-EB87BC7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601-5205-4BC0-A70C-C2C387C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0AA-36A5-44B7-AB48-AE88636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442D3-7836-46C9-A939-BD7B6D74E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