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6078730"/>
        <c:axId val="30192727"/>
      </c:barChart>
      <c:catAx>
        <c:axId val="9607873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192727"/>
        <c:crosses val="autoZero"/>
        <c:auto val="1"/>
        <c:lblAlgn val="ctr"/>
        <c:lblOffset val="100"/>
        <c:noMultiLvlLbl val="0"/>
      </c:catAx>
      <c:valAx>
        <c:axId val="3019272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07873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E8FE-1F1C-4143-8FDF-C1048F8E1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9412-782C-4EE6-A900-1E7AF72C8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2B8E-BD87-4211-8406-548D760E1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9E86-BC2A-4528-AB91-AB81DA2AF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975D-352F-4920-879B-5FFA57E14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E952-2EFD-4C8A-8FF0-2367A1AEA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AD00-8A08-4976-B504-7AC1E5A08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B67F-4AD2-4E47-B688-1DDEF47F6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E08B-8B3E-46E2-82F6-E7B833474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1743-CCE9-4A5C-A005-8596F227F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F661-76E0-4EB7-A6BF-9A0AD93B9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6E7C-F714-4EAF-B57D-1C9178A84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94C5AA-A4F1-445B-8B1E-48FBDE2A1BA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