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01620"/>
        <c:axId val="37495110"/>
      </c:barChart>
      <c:catAx>
        <c:axId val="420016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95110"/>
        <c:crosses val="autoZero"/>
        <c:auto val="1"/>
        <c:lblAlgn val="ctr"/>
        <c:lblOffset val="100"/>
        <c:noMultiLvlLbl val="0"/>
      </c:catAx>
      <c:valAx>
        <c:axId val="37495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016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680-08C9-4332-B23E-A492C4B3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195A-CCFD-4A1D-8084-3DB45BA3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5E9-C8ED-432D-8DE1-DA9530C0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00A-FFD6-4D20-9225-9253A7E4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8DDD-07E0-46F3-8A4E-F4F747ED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AA5-4B75-487B-B23F-87183199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686-493E-4BF8-ACD0-EE51DC2D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438-76EA-4056-816A-B40B6653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32B-D8E0-48B2-A5A0-84AC6F6C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D871-3B1F-42C8-A851-CDEDFDDD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1E17-1480-4E79-9B01-246219ED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957-F44F-4A93-9AC7-142A06A6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70480-3619-4CA7-BE2C-BCEBE2CA08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