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236618"/>
        <c:axId val="77619880"/>
      </c:barChart>
      <c:catAx>
        <c:axId val="422366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619880"/>
        <c:crosses val="autoZero"/>
        <c:auto val="1"/>
        <c:lblAlgn val="ctr"/>
        <c:lblOffset val="100"/>
        <c:noMultiLvlLbl val="0"/>
      </c:catAx>
      <c:valAx>
        <c:axId val="776198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2366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2537-090D-4FF6-8DA0-9FB7490E0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6528-F69F-4839-BA5F-8502B33E1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B67C-F266-47DA-B868-3C3C167B2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A1D0-E3D6-4FBA-80FB-84F91B91A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AD01-AD6E-411F-8E7C-D5826DD86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A4FF-9171-4988-8E84-C1FEE7CEC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6B2C-9A51-45D3-B542-70252229E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EFD4-D924-448C-AFB4-0CA2D21D7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76BF-9E98-484B-BE35-337B9679E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0CF5-061A-421E-9C1D-AE52CC84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750B-EFFF-43E9-B430-63F3C60C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5E5B-5585-4C9D-AE7E-A1D46CC5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968528-F715-447A-86B9-7DBEF16826A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