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88881"/>
        <c:axId val="93647384"/>
      </c:barChart>
      <c:catAx>
        <c:axId val="32388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47384"/>
        <c:crosses val="autoZero"/>
        <c:auto val="1"/>
        <c:lblAlgn val="ctr"/>
        <c:lblOffset val="100"/>
        <c:noMultiLvlLbl val="0"/>
      </c:catAx>
      <c:valAx>
        <c:axId val="93647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88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75C-D6C8-48DB-AFC8-CB88ACBC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619-A502-46C9-8D69-D2A76A6B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860-2742-44F7-8EE5-1AB86C72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9D3-9965-49CB-90C4-CCA2037B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1DA-103C-475D-B1CF-7CC9B09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281-D554-48AA-B802-A3E6BFC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883-9675-44DE-9192-DCE427B4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A0C-3CEE-4A2E-9A99-7EA7AAE3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147-88D0-4FCF-A3EE-B21BF766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E72-3152-4A5D-903A-2F6FA6B6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F95-865F-49EA-8CD9-71DE8101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4AB-AA1C-41BF-A441-EAA7E52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C5C76-87A8-4317-B921-055D3D974D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