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83158"/>
        <c:axId val="328902"/>
      </c:barChart>
      <c:catAx>
        <c:axId val="84483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902"/>
        <c:crosses val="autoZero"/>
        <c:auto val="1"/>
        <c:lblAlgn val="ctr"/>
        <c:lblOffset val="100"/>
        <c:noMultiLvlLbl val="0"/>
      </c:catAx>
      <c:valAx>
        <c:axId val="32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83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3D2-E6D5-4DAC-AB2F-AC4188C5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CE6-D790-4F3A-90AC-7F809DE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494-58AB-480A-8772-6E0AC810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7BC-FF93-46A5-BEC2-C97BE973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C6E-AE5D-4B4A-AE91-576AAAA3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6D1-7A87-4000-ADB5-4DAA87B3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F71-6E1F-4753-9750-306286C8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078-5892-4C9A-A412-B705925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2E0-443F-4361-AD4E-FE6D458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8F7-F740-48E6-BBD7-C18F07A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E12-6B5B-4740-AB44-5B9B7BA8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444-463F-4C93-A2C8-88E6FBA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2F57A-7409-4172-834B-242CFA8D87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