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826"/>
        <c:axId val="17255224"/>
      </c:barChart>
      <c:catAx>
        <c:axId val="619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5224"/>
        <c:crosses val="autoZero"/>
        <c:auto val="1"/>
        <c:lblAlgn val="ctr"/>
        <c:lblOffset val="100"/>
        <c:noMultiLvlLbl val="0"/>
      </c:catAx>
      <c:valAx>
        <c:axId val="17255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62E-C426-4D24-A860-2F3D040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7A6-32F5-4361-943D-957A76A3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FA3-E712-49A1-9F6B-824908D1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8DA-C17F-4679-BBB8-01E99B1A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860-FBBE-47FC-9AFB-FF43414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FF6-ABF6-4C23-9907-BC0743A7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367-E2FA-47D2-986E-D04334B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B4F-620D-4C83-8EF7-BAA53700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195-9D23-4EA1-B93A-F377F94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67F-E0E1-4AB4-BBBD-F94E869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D71-8671-4929-B497-45E812F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80A-DDBA-4605-91B3-5516767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8498-DE3D-4836-80F0-EF3860389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