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98645"/>
        <c:axId val="38832699"/>
      </c:barChart>
      <c:catAx>
        <c:axId val="79598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32699"/>
        <c:crosses val="autoZero"/>
        <c:auto val="1"/>
        <c:lblAlgn val="ctr"/>
        <c:lblOffset val="100"/>
        <c:noMultiLvlLbl val="0"/>
      </c:catAx>
      <c:valAx>
        <c:axId val="38832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98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B8C-55A9-4695-B99C-259A51FB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EFF-BD75-4DF5-84B7-A1F1F2E3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B5D-BAFB-437E-B6D5-BB88C0AE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A6B-EC92-4763-9468-034EAD15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1E6-D259-4F59-ACAA-C9DA661E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7F5-CF4F-4BDF-878A-69B2A1F0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15E-469A-4B71-B812-FA58BF4B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F42-3977-4F90-B150-3B78250F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58E-E94B-4DDE-A2C6-425861B6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EF6-48B7-4C81-BD09-B1FA892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A9A-01C3-43C8-9E55-B378B07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704-F00F-4AC3-8DB5-148D26AB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A3012-60CD-4779-A729-41D016D22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