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96129"/>
        <c:axId val="58274311"/>
      </c:barChart>
      <c:catAx>
        <c:axId val="28596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74311"/>
        <c:crosses val="autoZero"/>
        <c:auto val="1"/>
        <c:lblAlgn val="ctr"/>
        <c:lblOffset val="100"/>
        <c:noMultiLvlLbl val="0"/>
      </c:catAx>
      <c:valAx>
        <c:axId val="58274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96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260-5773-43BB-B79A-93368C6E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54A-026E-4B8C-8690-587D87C4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5F4-E20F-40B1-BBBC-EC7624AE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37D-48EC-4025-BE26-4E8B8C7F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6A8-F1A6-4DA4-8A88-23F2F331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157-A8B5-4FD5-90AD-512B6C8F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953-CD7A-4809-B0B4-6E34C08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B9A-BF57-4C70-BA32-E557DFF3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E32-EE94-451C-9BBD-1EB0FB4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564-C710-408F-9F53-50D7C82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674-8A21-49FC-B0FC-E5D982C5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2CA-5D54-452A-A9C2-3AC6643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C977E-13FC-47C1-9F47-DBDD3D0FDF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