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61013"/>
        <c:axId val="84150458"/>
      </c:barChart>
      <c:catAx>
        <c:axId val="83061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50458"/>
        <c:crosses val="autoZero"/>
        <c:auto val="1"/>
        <c:lblAlgn val="ctr"/>
        <c:lblOffset val="100"/>
        <c:noMultiLvlLbl val="0"/>
      </c:catAx>
      <c:valAx>
        <c:axId val="84150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61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E12-459B-4091-81CD-C123EBE0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9D7-90FE-4C15-8A43-1F730188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250-D020-487A-BCA4-6289E4F4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CE7-EAB7-4FF8-95A4-33B9D010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AD2-D0F0-4497-A833-5BFB8DDF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E6A-B95A-43A8-80E0-D7F7F5E0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935-94E4-4E8F-8FC1-8E2E38CF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356-A32C-40A7-A1A8-DC20B2D6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9A8-980E-452A-B6A4-7AB2508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351-C33F-4044-875A-6F5D5DF6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4EF-954C-405C-8E90-73A60DB7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67A-D203-406D-9B34-0F75BF60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B4F75-3111-4741-BE33-EF8DD07AC5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