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01026"/>
        <c:axId val="88258750"/>
      </c:barChart>
      <c:catAx>
        <c:axId val="64101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58750"/>
        <c:crosses val="autoZero"/>
        <c:auto val="1"/>
        <c:lblAlgn val="ctr"/>
        <c:lblOffset val="100"/>
        <c:noMultiLvlLbl val="0"/>
      </c:catAx>
      <c:valAx>
        <c:axId val="88258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01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340-6461-40CC-BC74-7A17147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499-7A65-47B5-80DC-54BBD03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33E-7978-48A1-AB3C-F1639F4D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380-B613-43E4-B847-6F07E12A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D42-12A4-4E2E-B5C7-FC4DB21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321-11F7-40E3-8C42-ECAF905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4B1-EC3C-4921-B81D-FF34F70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024-401E-4C13-9B51-6D6CACBC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254-CFCC-440B-957D-79C90CA6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784-CE6D-4EF2-A6E2-977EE00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D28-DD69-41F4-8446-2316E93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1A5-3B08-44E4-9324-63C0FE6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856B7-CCA6-4235-8820-4DC29EEDCD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