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31191"/>
        <c:axId val="75798484"/>
      </c:barChart>
      <c:catAx>
        <c:axId val="88631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98484"/>
        <c:crosses val="autoZero"/>
        <c:auto val="1"/>
        <c:lblAlgn val="ctr"/>
        <c:lblOffset val="100"/>
        <c:noMultiLvlLbl val="0"/>
      </c:catAx>
      <c:valAx>
        <c:axId val="75798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31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530-D00F-4FF3-B4E0-84D9DD77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D6E-3562-412E-9715-40E1F6A9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DD4-943C-42C8-8AAE-96A05877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EAB-61D6-49B6-9A2B-86F101CE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C16-6362-47C8-9434-E8D013E1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C6E-339B-46C0-A7B6-E1BC4207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FB0-C365-4661-8770-3F6FBA8E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873-5CF3-43FC-8DD9-E77A18DD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1FB-56C7-4EFC-A34D-BE767249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068-10CB-4593-B02A-25DFE2ED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B3E-9780-40BA-93D8-36939A01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86B-1AEA-4BC0-88A0-2494AC85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C8773-3A8A-4F89-A3F4-2FF82DFCA7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