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28677"/>
        <c:axId val="56306432"/>
      </c:barChart>
      <c:catAx>
        <c:axId val="50628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06432"/>
        <c:crosses val="autoZero"/>
        <c:auto val="1"/>
        <c:lblAlgn val="ctr"/>
        <c:lblOffset val="100"/>
        <c:noMultiLvlLbl val="0"/>
      </c:catAx>
      <c:valAx>
        <c:axId val="56306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28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28D-659E-4CFD-8BD5-68DFD709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B93-4A4A-46C1-909B-CC74E14A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E04-8E6C-4123-89F2-7BF07E96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73C-97BC-47AA-8FD0-4B598B0A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79C-094D-4666-A4A9-773A2245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D7A-EBA6-4B31-A6A5-11A5C83F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0B4-7F1F-40AC-BC26-D75DC7FE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C38-B16D-4C62-97FC-A7F27BD9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050-BDB0-4CBA-A4A3-B0D92ED8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D79-9D9C-4EF1-BCD3-6C040603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2EA-6E43-47CA-B14E-4867FDF7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ABC-9BC6-42F1-AF48-F302F381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A1B47-C401-4B80-A6D7-1000DAB9B3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