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872538"/>
        <c:axId val="67264367"/>
      </c:barChart>
      <c:catAx>
        <c:axId val="568725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64367"/>
        <c:crosses val="autoZero"/>
        <c:auto val="1"/>
        <c:lblAlgn val="ctr"/>
        <c:lblOffset val="100"/>
        <c:noMultiLvlLbl val="0"/>
      </c:catAx>
      <c:valAx>
        <c:axId val="672643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725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03D7-8A0F-4DB8-AF26-6E3A4647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B1B5-CCFD-4B85-8AC6-FAAD798C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A5C3-F588-408F-932C-98C1DCFF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BA7E-CA20-4D15-AFD5-54D9AB52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E4F2-7351-498C-96AD-87E93BA0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ECA8-3867-4DA2-85A3-8C384806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B69E-4B64-4B65-9733-A19FFC2E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10C3-EBDC-4886-BC90-0E3ECCA5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487C-F1F4-4060-A85D-B42DF4C9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5B0-908C-4347-B0A0-29913EFC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7EA9-D001-4CE1-BDC4-EFEC15E4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5AED-7B11-4F60-8DAA-74768253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94E3E-38BD-474A-9CEF-3EECDF411B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