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79141"/>
        <c:axId val="87018700"/>
      </c:barChart>
      <c:catAx>
        <c:axId val="79879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18700"/>
        <c:crosses val="autoZero"/>
        <c:auto val="1"/>
        <c:lblAlgn val="ctr"/>
        <c:lblOffset val="100"/>
        <c:noMultiLvlLbl val="0"/>
      </c:catAx>
      <c:valAx>
        <c:axId val="87018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79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41A-6970-4AE0-91A4-676D04F0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842-F5CA-4F37-ABD9-89F79196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F46-5676-49DA-9187-88CF8EA1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C47-2286-4815-94A3-D9B8035D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C30-EFCC-4F85-B2F4-444111E5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8D7-924D-4434-85B5-D6490D6B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9F8-6CBA-40CC-AF02-F76B7A42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A2C-4923-423D-865E-42BA82BA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343-C354-418F-ADAE-390F4CAA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CD1-61E7-4664-9993-092CCF9C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2DE-9C9F-4A82-8949-BE15E25B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28F-3163-4583-A0AA-3A59C7ED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29DF8-9CC9-46A4-B212-52ACD841D6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