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64198"/>
        <c:axId val="50646270"/>
      </c:barChart>
      <c:catAx>
        <c:axId val="19864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46270"/>
        <c:crosses val="autoZero"/>
        <c:auto val="1"/>
        <c:lblAlgn val="ctr"/>
        <c:lblOffset val="100"/>
        <c:noMultiLvlLbl val="0"/>
      </c:catAx>
      <c:valAx>
        <c:axId val="50646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64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1C1-6CB9-4CE3-BE87-9B4E6661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A5A-3E92-4494-B26A-DEFFA8B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3EA-EC5D-4FC6-B4A8-E93ACA38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D0E-FDC6-4A72-BE8E-CA2DB022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06F-FF33-4F2A-8CF5-61BF68BD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62E-6BED-4E51-B762-3F6A7C3E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73D-31C9-40E1-BC2E-D0D8C583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016-DEE1-42AC-9F09-5D85D04F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3B5-1A26-4DD3-AA89-1E8647D5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199-34C2-4FAD-8C93-48D7E13E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CAC-612D-4A15-B3D1-392B9B2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EF9-AD23-49BD-AC3C-4606168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26056-FBBC-4357-BCF0-3F8529CAA3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