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47045"/>
        <c:axId val="28030979"/>
      </c:barChart>
      <c:catAx>
        <c:axId val="39747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30979"/>
        <c:crosses val="autoZero"/>
        <c:auto val="1"/>
        <c:lblAlgn val="ctr"/>
        <c:lblOffset val="100"/>
        <c:noMultiLvlLbl val="0"/>
      </c:catAx>
      <c:valAx>
        <c:axId val="28030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47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DCE-F2C0-49CD-AB74-6A7E5479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557-22EB-4F00-B605-19C940B9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96B-2FA3-4435-A812-68AE4BCB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C16-DA5A-4CDA-8548-27C9CB66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5BC-7F69-43D6-AB65-815B7515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A63-35D9-485E-8114-85FCBD81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118-84B4-4215-8EA9-8EA1AA2F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5AA-1117-4A5C-813D-3AEFEBC1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738-FED4-441C-B4C9-28F399AA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EB4-50D0-41CB-9137-91AC1BF6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9CD-BB56-4A54-A622-E9E140BB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B98-C7B5-4FA4-8851-BE918DBB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72034-06CC-46ED-8353-A2E0D6C85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