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3589"/>
        <c:axId val="33306918"/>
      </c:barChart>
      <c:catAx>
        <c:axId val="5563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06918"/>
        <c:crosses val="autoZero"/>
        <c:auto val="1"/>
        <c:lblAlgn val="ctr"/>
        <c:lblOffset val="100"/>
        <c:noMultiLvlLbl val="0"/>
      </c:catAx>
      <c:valAx>
        <c:axId val="33306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3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E21-580C-493F-A29F-0CB4B6CC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7F6-8B4A-4BA0-9935-E6A92283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DF0-F85F-44AF-8DD6-DE90ED09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1B1-E0CA-42BA-8784-71985DA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DD0-1B92-41B5-9F42-83EFEAC7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20F-2968-453F-AF38-E3061203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BD0-4628-47A0-9661-8F6A27F4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2C3-3910-477F-AE4C-7D79CD83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532-3CD5-42CD-A974-B4BDABB9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F32-6EAA-4053-9A5D-8E4F0B0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067-FDA2-4868-B520-2151BC5E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E42-ADED-4E2F-9439-107F7AD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CDE00-E4BA-4BA9-8659-243AFB95BD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