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24490"/>
        <c:axId val="55234915"/>
      </c:barChart>
      <c:catAx>
        <c:axId val="70424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34915"/>
        <c:crosses val="autoZero"/>
        <c:auto val="1"/>
        <c:lblAlgn val="ctr"/>
        <c:lblOffset val="100"/>
        <c:noMultiLvlLbl val="0"/>
      </c:catAx>
      <c:valAx>
        <c:axId val="55234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24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05D-BEB4-479F-AA64-554E3A00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D6D-129D-491E-A17A-5BB48F09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C8E-E1D5-452B-B644-83775B6B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A9B-779F-4FDF-B4BE-DFB4A371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1DE-CFAE-4703-A4F6-E4907BE3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D29-6021-4C44-9496-EB3A920A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90B-D289-4E5B-940C-CC88248F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383-48D7-4886-9DC7-F44EEE78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C80-FD48-405D-946F-DD4D33D4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C20-1A49-463F-9CA6-384B5FEF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607-F597-496E-BDAD-15DC693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04A-3589-4A07-B9CD-373286B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9B67A-D81C-4DE4-8A58-14960716CA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