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30031"/>
        <c:axId val="64727069"/>
      </c:barChart>
      <c:catAx>
        <c:axId val="84430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27069"/>
        <c:crosses val="autoZero"/>
        <c:auto val="1"/>
        <c:lblAlgn val="ctr"/>
        <c:lblOffset val="100"/>
        <c:noMultiLvlLbl val="0"/>
      </c:catAx>
      <c:valAx>
        <c:axId val="6472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30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D39-A1E2-4D39-BE40-36AC5883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806-8932-40B7-BFE3-E79BCBD6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366-013B-4D8D-8FDC-07871DE3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A93-F521-4D3C-9B62-EF2E203E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69-2260-4110-8808-E6C9027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7C4-75CC-46FC-A063-D242665B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F82-22EC-4BED-A4D7-A5CE9F3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03C-B603-44E0-AB84-E31D8E61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AE6-3D4E-4241-ACCC-DD05B62E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8B9-1B65-46B7-8C5F-EAA6C60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A94-A3B3-4BC8-AA19-65DD10E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94-4006-4906-93F5-50EC2E6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FDAC2-E0ED-4BF6-9701-3536662D0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