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254183"/>
        <c:axId val="75525160"/>
      </c:barChart>
      <c:catAx>
        <c:axId val="602541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525160"/>
        <c:crosses val="autoZero"/>
        <c:auto val="1"/>
        <c:lblAlgn val="ctr"/>
        <c:lblOffset val="100"/>
        <c:noMultiLvlLbl val="0"/>
      </c:catAx>
      <c:valAx>
        <c:axId val="755251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2541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2F5A-D792-4DDB-9ED9-D547B9824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8252-E8DF-4620-B788-3CE3AEF9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D816-D01C-46E3-9AF6-764673F90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E0C9-4B4A-4D26-90A0-3F9E25F41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FE62-5F83-4EA3-BB3F-875638A8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AEED-2B2E-4965-B3CB-93D61BEF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283B-F01A-4A92-B8BA-A9C98481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2942-2B9A-4F37-BCDA-1E8BD0B7B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9064-418C-4FB6-8F76-FD745518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641B-9D8D-49DB-B05B-54741060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5E08-C34B-4BA3-86AA-3C92E9C5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4A6E-3E23-4A4D-BFEF-9FE132CB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D392A6-A3A5-46F5-906A-5C551D1171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