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6796"/>
        <c:axId val="73780469"/>
      </c:barChart>
      <c:catAx>
        <c:axId val="87746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0469"/>
        <c:crosses val="autoZero"/>
        <c:auto val="1"/>
        <c:lblAlgn val="ctr"/>
        <c:lblOffset val="100"/>
        <c:noMultiLvlLbl val="0"/>
      </c:catAx>
      <c:valAx>
        <c:axId val="73780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6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DE0-E34B-4916-A0FF-443C46F1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C50-BE9F-4177-9959-28A2636D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F11-F2F4-4635-9977-13445900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C99-1B7A-464D-8CCC-DD033F91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5A6-3527-40F7-9396-304E2678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BED-8C2C-4018-88F1-95820CA3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439-67E2-4A63-9F97-97779288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F98-11C1-4433-90DA-15420E4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18D-7389-47C9-B627-8A3BD1B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703-5E35-4412-9E84-AE9C966D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F6C-6D8A-48E4-BA5B-04EAE17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E09-197F-49B6-B116-8A2F797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014F0-354B-4787-A667-A9E1E30D05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