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94815"/>
        <c:axId val="87679061"/>
      </c:barChart>
      <c:catAx>
        <c:axId val="789948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79061"/>
        <c:crosses val="autoZero"/>
        <c:auto val="1"/>
        <c:lblAlgn val="ctr"/>
        <c:lblOffset val="100"/>
        <c:noMultiLvlLbl val="0"/>
      </c:catAx>
      <c:valAx>
        <c:axId val="876790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948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ED9-C76D-4957-AF10-5FC419E5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B072-A940-4D73-9955-6C174A1A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C72A-E4F1-4DDE-9776-854E84DA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1B91-06B6-4181-ACF9-D0FF1092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6FF1-F866-45B1-A3F5-BDD43CBA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800-9860-4E00-9E9E-577223D1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0EB-3B6B-410A-A9F7-334A9058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810-60EA-4AA4-BD52-DC1BCE3D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AC54-CEEC-4EAB-890A-0F55B7E1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F01-224C-425D-8A28-53F8A1E3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8B4-84AC-4CA3-8841-24F7D8B8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DDD-38EF-44A1-9C03-5754658F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7378F-0D28-40AA-AE83-7E87526C0C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