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00048"/>
        <c:axId val="15753333"/>
      </c:barChart>
      <c:catAx>
        <c:axId val="18500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53333"/>
        <c:crosses val="autoZero"/>
        <c:auto val="1"/>
        <c:lblAlgn val="ctr"/>
        <c:lblOffset val="100"/>
        <c:noMultiLvlLbl val="0"/>
      </c:catAx>
      <c:valAx>
        <c:axId val="15753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00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04C-4121-4741-BDC4-D50DE6BB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7DC-1097-494A-83B2-C6BAD8CE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AFD-ACBA-4E22-B9D7-C1FE83E7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6C2-798D-4FD9-9501-1EC97903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D2E-AB56-42DB-ACB6-04AAF9B5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BD7-FDDF-4707-B8EB-8EB49F4A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299-D8A9-412A-95D2-8511DC25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AF7-D8AB-4457-818B-8656C16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D56-C2D3-4EC4-84C6-F78EFC32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FE4-28B3-4E72-BE54-C2AA95F4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5B9-8316-4BF2-A468-462106D0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8F6-4F36-4AAE-B3F2-9404BB92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D88EE-BAD8-484A-86EC-89ECBFE171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