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49564"/>
        <c:axId val="51852517"/>
      </c:barChart>
      <c:catAx>
        <c:axId val="22049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52517"/>
        <c:crosses val="autoZero"/>
        <c:auto val="1"/>
        <c:lblAlgn val="ctr"/>
        <c:lblOffset val="100"/>
        <c:noMultiLvlLbl val="0"/>
      </c:catAx>
      <c:valAx>
        <c:axId val="51852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49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0E2-65B6-4083-901E-2A128371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78B-55D9-4463-82AD-F727CF15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895-28D2-40F9-BEB1-2C5D733E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E56-5766-4D01-BF6C-9BDEB72D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EAE-7AE0-414B-93A8-473035AC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3B6-D946-400B-A15F-9C87A3C7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0CF-A3FE-429E-925B-DC43F2C2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494-E270-45FB-833C-442301F1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057-02E1-4681-89E3-1FE5269D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CE4-395A-4853-A1CE-BB6DB7CF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ABA-A896-4ED2-AECB-1D3145BE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8B4-D531-47EF-B9A8-1EF6561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8C0C6-54C2-4ED7-8083-AD480C2FCC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