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65986"/>
        <c:axId val="85216533"/>
      </c:barChart>
      <c:catAx>
        <c:axId val="25659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16533"/>
        <c:crosses val="autoZero"/>
        <c:auto val="1"/>
        <c:lblAlgn val="ctr"/>
        <c:lblOffset val="100"/>
        <c:noMultiLvlLbl val="0"/>
      </c:catAx>
      <c:valAx>
        <c:axId val="852165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59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A880-9500-4D56-854F-9720915A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A2E8-C195-4757-964C-22278C09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42FD-503C-437F-9AF2-287C72E41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F3AC-5529-4F93-9248-CAFC31566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A221-B7C2-4788-8259-52E1562E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0000-FBB7-40A6-88C2-57ED07AB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49EF-F897-4D52-BA75-A35200BF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72BA-3994-4FEE-BF7A-3D9A31D4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3FBA-097E-44A0-8967-3AEFBD29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F4C4-4906-45FE-976D-8ECFFDC3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C7A5-8255-4611-8EE2-42AE13F1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5857-79EF-49D4-B5E6-1CEB2A80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D4D8C-5BE6-4339-94F2-A2F445AA0D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