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408408"/>
        <c:axId val="58904569"/>
      </c:barChart>
      <c:catAx>
        <c:axId val="454084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04569"/>
        <c:crosses val="autoZero"/>
        <c:auto val="1"/>
        <c:lblAlgn val="ctr"/>
        <c:lblOffset val="100"/>
        <c:noMultiLvlLbl val="0"/>
      </c:catAx>
      <c:valAx>
        <c:axId val="589045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084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EAB8-6A4F-44C3-8FD8-15ECD631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0398-ED05-4DEE-87CF-B2FA68C8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9FDE-B483-463F-8784-8ECB70DD7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BF86-59D0-4F04-9343-B7BE31C45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2D2C-4715-4611-91C5-98372111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2571-3371-46DE-88E8-29CDF486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1E3F-DBCC-4327-8506-6EA1AE1A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B6BA-CFDA-4816-8130-6BE38952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FDE3-45DF-4C51-8740-203BC4EA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9F3E-9FD7-43B0-8462-C72DA3AB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533F-046B-4C64-8003-4CEC0B08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0090-771A-4686-8BFA-FF60DF67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FC7589-1F66-4251-92AE-D638731714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