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81044"/>
        <c:axId val="74565932"/>
      </c:barChart>
      <c:catAx>
        <c:axId val="91481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65932"/>
        <c:crosses val="autoZero"/>
        <c:auto val="1"/>
        <c:lblAlgn val="ctr"/>
        <c:lblOffset val="100"/>
        <c:noMultiLvlLbl val="0"/>
      </c:catAx>
      <c:valAx>
        <c:axId val="74565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81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856-4A15-4D54-AAE5-5AAEE855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F0C-F381-42FC-ADA2-34563628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6B9-F6DB-408B-B379-8F3DC230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680-AD98-4564-A67D-24CC1706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417-B528-4AB5-9A7B-7EA604C8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E47-3505-4D0D-ACB6-901175A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A2B-6BB3-466F-9014-F0D1F84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48D-8FFE-4E44-97AB-FA560172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55F-CD76-4EE4-B35A-A16B579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D13-D632-496D-950F-CD37B7FD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614-63BB-4A7B-92B7-3E510854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A62F-2CF2-4746-A2AD-B3CAF0F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F6BE6-073B-4DB4-86C5-26A63DF5E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