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63847"/>
        <c:axId val="30255529"/>
      </c:barChart>
      <c:catAx>
        <c:axId val="46463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55529"/>
        <c:crosses val="autoZero"/>
        <c:auto val="1"/>
        <c:lblAlgn val="ctr"/>
        <c:lblOffset val="100"/>
        <c:noMultiLvlLbl val="0"/>
      </c:catAx>
      <c:valAx>
        <c:axId val="302555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63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64F-7747-4FA2-B022-61772E49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D35-8F2F-401D-A14C-521B546A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5C6-26A4-4B1C-BD9C-7B5A09E8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035-2D3F-4BF1-86B2-9C6BD6E3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36D-6FD0-4794-A75D-A3D615A0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92A-3AC0-4125-B6F5-6234A5EF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6EA-A914-4442-8868-E67FF971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AA5-1E45-4206-967D-424F6EC9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96B-F2DE-4CF0-80A2-97A3D2C7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2A7-4FCE-4356-ACFB-E84D7A61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14D-5C92-4EC0-875C-179A5297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885-AF38-481B-8FF4-7AD90606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B28CA-758C-4F55-B3C6-42D536BADF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