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33647"/>
        <c:axId val="53366216"/>
      </c:barChart>
      <c:catAx>
        <c:axId val="2303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66216"/>
        <c:crosses val="autoZero"/>
        <c:auto val="1"/>
        <c:lblAlgn val="ctr"/>
        <c:lblOffset val="100"/>
        <c:noMultiLvlLbl val="0"/>
      </c:catAx>
      <c:valAx>
        <c:axId val="53366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3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7BC-0906-492B-AAE6-D63CF86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ED8-6E21-4E36-A88C-7AC6581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E45-7962-4B14-BEE8-418611B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103-69DF-4177-B2EF-BAFF8DA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742-F506-437C-B35C-4749D44B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800-7F93-43E7-85CC-F9CC519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B66-691C-43D7-B7D4-B3CEA9B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063-840C-4287-ADB8-1A7FD04B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06B-A23F-4C5F-B0AB-504F8D1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469-423E-4BAA-8A3C-FE067E7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289-E7A1-475F-BE9E-7E06FA8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C1C-A15D-4E94-95BB-1FEF8A6E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C50E8-1082-4202-A537-C4926D947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