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50357"/>
        <c:axId val="66797653"/>
      </c:barChart>
      <c:catAx>
        <c:axId val="13250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97653"/>
        <c:crosses val="autoZero"/>
        <c:auto val="1"/>
        <c:lblAlgn val="ctr"/>
        <c:lblOffset val="100"/>
        <c:noMultiLvlLbl val="0"/>
      </c:catAx>
      <c:valAx>
        <c:axId val="66797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50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595D-DF3B-41F2-8B2F-97AFA47D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5BF-1272-4287-99E9-6D01DDDB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7576-F469-4432-A3A6-C4039AB7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717-984D-4F50-B1B2-6A2B023B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FB3-5208-41B5-AA09-55437158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62E-6F82-464E-BA6A-B4BEDABB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420-A0CC-49BE-A96C-5BF3D397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9A2-F96B-4841-A91E-4ED3981E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090-F8B7-487A-9DCE-99D3693E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4049-0824-41C8-A6F4-E7761A37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A26-7863-4045-84A3-5EF107FB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E8C-4C35-417F-8A0E-2E82E4F3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60617-FB69-4057-9B1D-8A4422C770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