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019308"/>
        <c:axId val="32021308"/>
      </c:barChart>
      <c:catAx>
        <c:axId val="360193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21308"/>
        <c:crosses val="autoZero"/>
        <c:auto val="1"/>
        <c:lblAlgn val="ctr"/>
        <c:lblOffset val="100"/>
        <c:noMultiLvlLbl val="0"/>
      </c:catAx>
      <c:valAx>
        <c:axId val="320213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193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E919-153E-4167-B42A-7587D056C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4D90-A503-401D-80C4-3A5CA166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9BD9-4598-4C6F-96E3-85489BDF6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8023-03A8-4D7D-8846-52E4D4741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DF7D-5693-4B83-AE8D-71025FD0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0B66-09C9-42A1-8961-706CD374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A4A1-7FB9-4B47-8B40-99F2E257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826E-D6E0-4050-809B-108B107B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D8DE-3E05-4841-8917-8BB5F9AC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D617-363A-45FA-A203-4574B423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7C21-6B03-4438-89D4-7DE30774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FCEA-59E0-49FB-A653-7F334219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3DACE4-4745-4EED-8BD8-0E41584F2F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