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83102"/>
        <c:axId val="24051686"/>
      </c:barChart>
      <c:catAx>
        <c:axId val="25383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51686"/>
        <c:crosses val="autoZero"/>
        <c:auto val="1"/>
        <c:lblAlgn val="ctr"/>
        <c:lblOffset val="100"/>
        <c:noMultiLvlLbl val="0"/>
      </c:catAx>
      <c:valAx>
        <c:axId val="24051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83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330-7103-4057-93CF-BA08732D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CA5-D753-4492-B192-6FAD05C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8A5-69E1-4E2F-A81B-CD501370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DB5-29A8-4EC1-9707-694B46E6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9E2-DA0E-4977-BD46-24484633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BC8-7266-4603-8A02-60A5BE32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910-2906-48BA-8004-58E90B3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394-62A2-4F40-ADDC-B67D4539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D13-7F02-435A-9827-401D6BFB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541-25F6-4C41-9762-566CBC3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416-994F-47EF-BC70-DE710C1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ED3-7A11-4EBF-A9EF-6698F932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0CD1A-F01F-4629-B4AA-18F8AD4C4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