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5633"/>
        <c:axId val="12960663"/>
      </c:barChart>
      <c:catAx>
        <c:axId val="6265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0663"/>
        <c:crosses val="autoZero"/>
        <c:auto val="1"/>
        <c:lblAlgn val="ctr"/>
        <c:lblOffset val="100"/>
        <c:noMultiLvlLbl val="0"/>
      </c:catAx>
      <c:valAx>
        <c:axId val="12960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5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8B1-D3C0-40CE-90CF-670596A9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F2F-662F-4D8C-9333-F28427F2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9DF-9306-47B3-BAFB-78C7DC89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D60-28AD-4283-8337-41192171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D54-9434-45C8-B5B6-523CD479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934-77F4-4DAA-8CF2-DA3B24F1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5F9-9CB6-47A1-B1B4-E0C66E86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73C-8981-4F85-8D17-395A9FA2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B9E-A629-40AA-BA2E-8EBF274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228-D76B-4CD5-90A8-5D3D936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E15-518F-4792-BDA0-965F402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B01-4CD0-4A0A-A459-33FEA65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5AC5D-0E56-4E6F-99E2-AA610AE463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