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2453"/>
        <c:axId val="3622816"/>
      </c:barChart>
      <c:catAx>
        <c:axId val="4962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2816"/>
        <c:crosses val="autoZero"/>
        <c:auto val="1"/>
        <c:lblAlgn val="ctr"/>
        <c:lblOffset val="100"/>
        <c:noMultiLvlLbl val="0"/>
      </c:catAx>
      <c:valAx>
        <c:axId val="3622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2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C7E-E120-444F-9866-15F64BE0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633-1301-4878-AB73-A4E63841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11D-4BB9-4B06-82F5-4F04C6AD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5FC-A52F-4A16-B2B8-F6EC3ACD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5D8-E7D8-4E84-A0D6-4D20CC1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B9E-FBE2-4241-8A80-DAE30AAD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7BC-23DB-43B3-B207-D0D67A6E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351-517B-49DA-819D-D7958012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F4D-0031-42E5-B3A4-7A34C2E0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377-9354-4ED4-9BD7-B7B44826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FF0-7446-41C4-BD4C-4C527612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031-124B-4CCF-B43B-5FB91739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DFAC8-B546-4C52-91D2-F1C0F70E16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