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93481"/>
        <c:axId val="77559216"/>
      </c:barChart>
      <c:catAx>
        <c:axId val="56593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59216"/>
        <c:crosses val="autoZero"/>
        <c:auto val="1"/>
        <c:lblAlgn val="ctr"/>
        <c:lblOffset val="100"/>
        <c:noMultiLvlLbl val="0"/>
      </c:catAx>
      <c:valAx>
        <c:axId val="77559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93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3A8-2F1E-4CE9-94E8-E9D17022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F154-6E93-44B2-944D-8D37807D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EFE-5EBB-4656-BB1A-5C247B64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675-030C-45F0-B105-B2CFB489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32F-08F6-4003-8BF6-9A88B82F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1B43-1052-4F88-A86A-DFD07249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8BF-3D87-4DCB-BFC7-CF5E9FA2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5AC-CE1F-49AE-A9D3-1B71AE3E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E6E-AE6E-4F57-AD1D-6A23EA32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00D-2214-4C60-933F-FE71C733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364-169D-4A02-A086-8F338594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9224-5045-4BF5-8A27-CBA8075F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9BF49-87AC-4103-A802-2D97C310DF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