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307996"/>
        <c:axId val="29768293"/>
      </c:barChart>
      <c:catAx>
        <c:axId val="56307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68293"/>
        <c:crosses val="autoZero"/>
        <c:auto val="1"/>
        <c:lblAlgn val="ctr"/>
        <c:lblOffset val="100"/>
        <c:noMultiLvlLbl val="0"/>
      </c:catAx>
      <c:valAx>
        <c:axId val="29768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07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127-298D-46ED-A030-F4770084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D23-2120-4EA6-9E45-4623BF1A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5D7E-BF20-4C4D-918E-898DAF1B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ABDB-8DF9-4EFD-AD89-284C589B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84F-5006-41EA-9576-10A855E5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F750-8CE8-444A-A5E8-A98D38DD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E30C-C029-4A2B-B6BA-0A9EE227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017-5F81-4A28-A22C-1060055A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EDF-4352-4916-9731-BFA7E22C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6E2-71A7-433C-A972-D8EBDC90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2B9F-9C2F-4431-AF55-9FBFC5C0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A380-A035-4103-BD32-8A10A676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F8622-4CF3-4036-BE0A-9A7A842028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