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83572"/>
        <c:axId val="1335648"/>
      </c:barChart>
      <c:catAx>
        <c:axId val="54683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5648"/>
        <c:crosses val="autoZero"/>
        <c:auto val="1"/>
        <c:lblAlgn val="ctr"/>
        <c:lblOffset val="100"/>
        <c:noMultiLvlLbl val="0"/>
      </c:catAx>
      <c:valAx>
        <c:axId val="13356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83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91F-DFDC-411B-BFD8-FE849845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B3D8-B3FD-48C3-9248-CF8381C0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5C0-AA05-4685-BFEF-4C68BF21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590-ECBD-45F2-8317-74F963AF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AD9-503E-4770-8D3F-E673EB9A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EEC-2725-4293-B0F4-033B0559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6EF-0595-4642-B167-98E25124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C38-14B6-4577-A5E6-AD419AC2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6F8-5FF6-4040-BB3A-CB5AE483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87D-C48D-455A-802C-DA836D04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819-96D7-44EF-A51B-98DAC462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6641-0BAD-4EC1-B575-2A64D940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78724-BF18-40BB-96C7-F4388F3742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