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67571"/>
        <c:axId val="13069435"/>
      </c:barChart>
      <c:catAx>
        <c:axId val="50567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69435"/>
        <c:crosses val="autoZero"/>
        <c:auto val="1"/>
        <c:lblAlgn val="ctr"/>
        <c:lblOffset val="100"/>
        <c:noMultiLvlLbl val="0"/>
      </c:catAx>
      <c:valAx>
        <c:axId val="13069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67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B3B-497D-4463-A579-59BE2F57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25A-0E55-4189-BA9B-207F6F47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327-F864-47FC-912A-259F65EA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B1B-8C7A-47BC-BD44-DDCAC9FA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FC7-57EF-4E85-8E10-A3B22E37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5AD-4818-4CEB-A3F8-5AF6CDF6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B76-0B51-4308-9A1E-972905D0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08B-A349-4371-BBBF-DFA9DBF7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F7A-AB40-45C9-BC60-08676B3E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C2B-650D-4970-BEE9-8122AF30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BA0-F104-437E-80E3-3A61A0D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8D8-F251-471D-A238-26E02967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ED1F7-0C29-4597-A828-E913ED51BA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